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220B-3EE4-483A-BCEA-8B4AF3C3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0F75-109E-4792-8DF3-AB06C773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DA37-C305-43D9-8C12-B67458B6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69DE-4F63-4816-9D14-5A28376C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08DE-231E-4263-B02C-2AEF7061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9F70-EF61-49C4-846A-645EF252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BF42-829B-4983-9139-1C45C2F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8386-5A4F-4DDB-BF1B-519E8382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8B0-71FE-4EB4-9F6E-5ED372E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7912-74D4-4668-8566-44AA7E6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6D1A-D574-47C7-911D-AAE61C0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4393-14F1-4B44-BD5D-9D71A80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A81A-C109-46A0-B0E0-A40A66D2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11A-B0CD-49E5-A3FD-2947D516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6C75-6C82-46E7-AA10-8A1A7E76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A1BF-35F3-46B1-8937-9469293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E8E5-4B40-46C4-ADD8-182D654D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1065-397E-4391-8A52-3969F7C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4278-A48C-4BF3-AB47-C3E1E54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CA1-01F4-4706-B768-C7A2782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081A-D89B-4623-9700-3D11927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3947-C3E4-401C-8D49-23A54E0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011B-3291-48D0-BA02-E75E08C8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4AB0-9C9A-4EA3-A720-8D3D86D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4E4E-2737-40F8-8A9B-03EC3C8E3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29C2-F565-4D8C-B48C-350A5CCE8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s.clemson.edu/~ahoover/stare/" TargetMode="External"/><Relationship Id="rId2" Type="http://schemas.openxmlformats.org/officeDocument/2006/relationships/hyperlink" Target="http://www.parl.clemson.edu/stare/nerv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0666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7680" y="417600"/>
            <a:ext cx="8397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NAL BLOOD VESSEL EXTRACTION (SEG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Image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and STARE databases are available for the publ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ww.ces.clemson.edu/~ahoover/star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arl.clemson.edu/stare/nerv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orked on 50 fundus images from the STAR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he Images Were T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Optical camera is used to see through the pupil of the eye to the inner su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eyeball. The resulting retinal image shows the optic nerve, fovea, and the blood vesse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56:34Z</dcterms:created>
  <dc:creator>leanderr</dc:creator>
  <dc:description/>
  <dc:language>en-US</dc:language>
  <cp:lastModifiedBy>leanderr</cp:lastModifiedBy>
  <dcterms:modified xsi:type="dcterms:W3CDTF">2007-05-23T21:57:53Z</dcterms:modified>
  <cp:revision>1</cp:revision>
  <dc:subject/>
  <dc:title>Slide 1</dc:title>
</cp:coreProperties>
</file>